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1CE2A4-1824-4D90-BB3A-36F22BC3344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0ECE8-7218-4A0C-A702-A9D918F57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6762-77CF-425C-BE63-4E70DA70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09D1D-1F61-4A41-906F-BD4C23783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05ED-6BAA-4509-95FD-362380002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96890-B927-45E8-AB1D-6B90015E6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12E13-0072-4C9F-BAE9-EAB3AD53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6E39F-ACC5-4A0F-A95C-4E222596E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A5815-C7D6-4149-9D5D-2B04BE7B1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0906F-E090-4C11-AE53-0E12CC292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6595F-851D-4C65-8034-F3BCBEBEA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80FB9-CC63-48AD-8AF4-1A59EAE1C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D25B5-6C50-4EBD-83ED-797FEA1B5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15EC6-1AC5-463F-886A-14809826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B5617-CAAB-4502-95B9-0E9758FC6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AC1FE-A176-48F2-B448-313C800FB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00EA0-3E40-457D-895B-DF59FD709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F3146-6E5D-4C9B-A23B-7CB478500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6130-0202-4547-8F75-3D8F1785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8E747-FA6A-4EAA-83DC-A9630CE79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9F9F8-CD5D-491F-917D-2571805A4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02D7-1583-4869-960C-D9E11D152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84C2-C04F-4FEC-8C9D-9BF2800F8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5BEDC-1A63-4F82-A335-5463CB25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5A8A-89DB-4687-B66B-8AD0AB91E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9F39-3690-454F-950E-4E5560512413}"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931D-BBF2-4097-B0EA-37E263CD7D4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C3A1-514A-4FD2-AC48-FE576BB5C0C8}"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2ED9-CC04-4731-85CE-D4685A2E99E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E35EDD2-76F0-4EDC-B1D2-4DC6B8A935C7}" type="slidenum">
              <a:t>10</a:t>
            </a:fld>
          </a:p>
        </p:txBody>
      </p:sp>
      <p:sp>
        <p:nvSpPr>
          <p:cNvPr id="5" name="PlaceHolder 4"/>
          <p:cNvSpPr>
            <a:spLocks noGrp="1"/>
          </p:cNvSpPr>
          <p:nvPr>
            <p:ph type="dt" idx="1"/>
          </p:nvPr>
        </p:nvSpPr>
        <p:spPr/>
        <p:txBody>
          <a:bodyPr/>
          <a:p>
            <a:fld id="{4E8142C8-40D1-43E5-9C25-187FC354CFE4}" type="datetime1">
              <a:rPr lang="en-US"/>
              <a:t>07/29/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4632171-04F0-4C3A-AAC7-F4EE34F1E64E}" type="slidenum">
              <a:t>11</a:t>
            </a:fld>
          </a:p>
        </p:txBody>
      </p:sp>
      <p:sp>
        <p:nvSpPr>
          <p:cNvPr id="6" name="PlaceHolder 5"/>
          <p:cNvSpPr>
            <a:spLocks noGrp="1"/>
          </p:cNvSpPr>
          <p:nvPr>
            <p:ph type="dt" idx="1"/>
          </p:nvPr>
        </p:nvSpPr>
        <p:spPr/>
        <p:txBody>
          <a:bodyPr/>
          <a:p>
            <a:fld id="{48F1A21E-0A46-41BF-BF55-8E7455C1A0C0}" type="datetime1">
              <a:rPr lang="en-US"/>
              <a:t>07/29/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8D1C69B-502F-42DA-ADD8-4DC9E6E507DF}" type="slidenum">
              <a:t>12</a:t>
            </a:fld>
          </a:p>
        </p:txBody>
      </p:sp>
      <p:sp>
        <p:nvSpPr>
          <p:cNvPr id="6" name="PlaceHolder 5"/>
          <p:cNvSpPr>
            <a:spLocks noGrp="1"/>
          </p:cNvSpPr>
          <p:nvPr>
            <p:ph type="dt" idx="1"/>
          </p:nvPr>
        </p:nvSpPr>
        <p:spPr/>
        <p:txBody>
          <a:bodyPr/>
          <a:p>
            <a:fld id="{3C25BD1C-1632-413B-BD36-57EDAA6D95BA}"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9831E38-70C1-410C-A1BA-952FEAF81B0C}" type="slidenum">
              <a:t>13</a:t>
            </a:fld>
          </a:p>
        </p:txBody>
      </p:sp>
      <p:sp>
        <p:nvSpPr>
          <p:cNvPr id="6" name="PlaceHolder 5"/>
          <p:cNvSpPr>
            <a:spLocks noGrp="1"/>
          </p:cNvSpPr>
          <p:nvPr>
            <p:ph type="dt" idx="1"/>
          </p:nvPr>
        </p:nvSpPr>
        <p:spPr/>
        <p:txBody>
          <a:bodyPr/>
          <a:p>
            <a:fld id="{86CDDE36-EE8A-4531-8A02-8A32CDFA004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0F45ED2-9A38-431A-9A38-B359479C1BBD}" type="slidenum">
              <a:t>14</a:t>
            </a:fld>
          </a:p>
        </p:txBody>
      </p:sp>
      <p:sp>
        <p:nvSpPr>
          <p:cNvPr id="6" name="PlaceHolder 5"/>
          <p:cNvSpPr>
            <a:spLocks noGrp="1"/>
          </p:cNvSpPr>
          <p:nvPr>
            <p:ph type="dt" idx="1"/>
          </p:nvPr>
        </p:nvSpPr>
        <p:spPr/>
        <p:txBody>
          <a:bodyPr/>
          <a:p>
            <a:fld id="{BDF92734-EDC7-4BED-BA66-D5A36F22D4A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09A5E0C-04F8-4761-8AB1-C861D8E88252}" type="slidenum">
              <a:t>15</a:t>
            </a:fld>
          </a:p>
        </p:txBody>
      </p:sp>
      <p:sp>
        <p:nvSpPr>
          <p:cNvPr id="6" name="PlaceHolder 5"/>
          <p:cNvSpPr>
            <a:spLocks noGrp="1"/>
          </p:cNvSpPr>
          <p:nvPr>
            <p:ph type="dt" idx="1"/>
          </p:nvPr>
        </p:nvSpPr>
        <p:spPr/>
        <p:txBody>
          <a:bodyPr/>
          <a:p>
            <a:fld id="{2301D531-005E-49C3-A8AC-4D1891835AC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71849A8-8579-4A92-BA52-D195A9839317}" type="slidenum">
              <a:t>2</a:t>
            </a:fld>
          </a:p>
        </p:txBody>
      </p:sp>
      <p:sp>
        <p:nvSpPr>
          <p:cNvPr id="6" name="PlaceHolder 5"/>
          <p:cNvSpPr>
            <a:spLocks noGrp="1"/>
          </p:cNvSpPr>
          <p:nvPr>
            <p:ph type="dt" idx="1"/>
          </p:nvPr>
        </p:nvSpPr>
        <p:spPr/>
        <p:txBody>
          <a:bodyPr/>
          <a:p>
            <a:fld id="{A6988B0A-4275-415D-B4D9-C48F63E53C90}" type="datetime1">
              <a:rPr lang="en-US"/>
              <a:t>07/29/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DD16150-F2C9-4802-B5C7-F050E5918753}" type="slidenum">
              <a:t>3</a:t>
            </a:fld>
          </a:p>
        </p:txBody>
      </p:sp>
      <p:sp>
        <p:nvSpPr>
          <p:cNvPr id="6" name="PlaceHolder 5"/>
          <p:cNvSpPr>
            <a:spLocks noGrp="1"/>
          </p:cNvSpPr>
          <p:nvPr>
            <p:ph type="dt" idx="1"/>
          </p:nvPr>
        </p:nvSpPr>
        <p:spPr/>
        <p:txBody>
          <a:bodyPr/>
          <a:p>
            <a:fld id="{45ABCB64-6FAD-45AC-BDE6-3667767EC652}" type="datetime1">
              <a:rPr lang="en-US"/>
              <a:t>07/29/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516A9AB-9C18-4DA0-97DC-F3ECD6D71132}" type="slidenum">
              <a:t>4</a:t>
            </a:fld>
          </a:p>
        </p:txBody>
      </p:sp>
      <p:sp>
        <p:nvSpPr>
          <p:cNvPr id="6" name="PlaceHolder 5"/>
          <p:cNvSpPr>
            <a:spLocks noGrp="1"/>
          </p:cNvSpPr>
          <p:nvPr>
            <p:ph type="dt" idx="1"/>
          </p:nvPr>
        </p:nvSpPr>
        <p:spPr/>
        <p:txBody>
          <a:bodyPr/>
          <a:p>
            <a:fld id="{B87778B8-A864-44B0-AB09-EA39E9FF4249}" type="datetime1">
              <a:rPr lang="en-US"/>
              <a:t>07/29/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973BB64-33B3-4E0A-8E04-7CC34A7A4411}" type="slidenum">
              <a:t>5</a:t>
            </a:fld>
          </a:p>
        </p:txBody>
      </p:sp>
      <p:sp>
        <p:nvSpPr>
          <p:cNvPr id="5" name="PlaceHolder 4"/>
          <p:cNvSpPr>
            <a:spLocks noGrp="1"/>
          </p:cNvSpPr>
          <p:nvPr>
            <p:ph type="dt" idx="1"/>
          </p:nvPr>
        </p:nvSpPr>
        <p:spPr/>
        <p:txBody>
          <a:bodyPr/>
          <a:p>
            <a:fld id="{72C4C482-E9E7-46FD-B07E-D4B35D5EEF58}" type="datetime1">
              <a:rPr lang="en-US"/>
              <a:t>07/29/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9A8FC80-C7E4-45EA-914B-0E6780BDA0A6}" type="slidenum">
              <a:t>6</a:t>
            </a:fld>
          </a:p>
        </p:txBody>
      </p:sp>
      <p:sp>
        <p:nvSpPr>
          <p:cNvPr id="5" name="PlaceHolder 4"/>
          <p:cNvSpPr>
            <a:spLocks noGrp="1"/>
          </p:cNvSpPr>
          <p:nvPr>
            <p:ph type="dt" idx="1"/>
          </p:nvPr>
        </p:nvSpPr>
        <p:spPr/>
        <p:txBody>
          <a:bodyPr/>
          <a:p>
            <a:fld id="{DF1CA6A2-6D10-4389-B363-19DA8A6CD3EB}" type="datetime1">
              <a:rPr lang="en-US"/>
              <a:t>07/29/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E176DFE-6DF8-4CA3-8F48-BF9FFF1630D7}" type="slidenum">
              <a:t>7</a:t>
            </a:fld>
          </a:p>
        </p:txBody>
      </p:sp>
      <p:sp>
        <p:nvSpPr>
          <p:cNvPr id="6" name="PlaceHolder 5"/>
          <p:cNvSpPr>
            <a:spLocks noGrp="1"/>
          </p:cNvSpPr>
          <p:nvPr>
            <p:ph type="dt" idx="1"/>
          </p:nvPr>
        </p:nvSpPr>
        <p:spPr/>
        <p:txBody>
          <a:bodyPr/>
          <a:p>
            <a:fld id="{78615940-C759-48CD-A93E-F663E0E9E932}"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922DD55-3AE3-414A-AA66-5A1217258675}" type="slidenum">
              <a:t>8</a:t>
            </a:fld>
          </a:p>
        </p:txBody>
      </p:sp>
      <p:sp>
        <p:nvSpPr>
          <p:cNvPr id="6" name="PlaceHolder 5"/>
          <p:cNvSpPr>
            <a:spLocks noGrp="1"/>
          </p:cNvSpPr>
          <p:nvPr>
            <p:ph type="dt" idx="1"/>
          </p:nvPr>
        </p:nvSpPr>
        <p:spPr/>
        <p:txBody>
          <a:bodyPr/>
          <a:p>
            <a:fld id="{B840127F-A7E3-4FE4-BD11-B6E043E726D1}" type="datetime1">
              <a:rPr lang="en-US"/>
              <a:t>07/29/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106ED57-7926-44B5-A10C-B629535CE319}" type="slidenum">
              <a:t>9</a:t>
            </a:fld>
          </a:p>
        </p:txBody>
      </p:sp>
      <p:sp>
        <p:nvSpPr>
          <p:cNvPr id="5" name="PlaceHolder 4"/>
          <p:cNvSpPr>
            <a:spLocks noGrp="1"/>
          </p:cNvSpPr>
          <p:nvPr>
            <p:ph type="dt" idx="1"/>
          </p:nvPr>
        </p:nvSpPr>
        <p:spPr/>
        <p:txBody>
          <a:bodyPr/>
          <a:p>
            <a:fld id="{C653D987-58E1-419F-ACFD-3BA2EEADC3EF}" type="datetime1">
              <a:rPr lang="en-US"/>
              <a:t>07/29/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